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6080-9C68-4C3E-AA95-5686A8062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4600-FE4B-4038-B793-D129DB48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8DF8-12FB-4981-9064-FE9DEC62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21DD-F370-4028-B55D-DC461BC98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8BB1-D0AB-4D8D-AD73-0308E823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D29D-2DD4-4450-AA78-360036B3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A332-1F58-4D70-85C6-5EDE1296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3444-7CB8-465D-8042-B2024BAE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AFD2-5BFD-4EA5-A63E-FB2D868E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1163-6A49-417A-8900-CDCEC8A0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F6A5-68A4-471A-834D-845390EA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910A-CC76-4E14-B1A1-6C22E328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6E43-8719-486F-BF41-FC49C1C1443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ousin K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hristina Rosset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231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lax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u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oe’s 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there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cast me b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sp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ry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ean esta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s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coro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43280" y="1600200"/>
            <a:ext cx="58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ale-yellow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empted into a tra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orrow/misfortune is m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f thi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rew me of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am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ereal cro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oor background/hom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ath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row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Jane Klima</cp:lastModifiedBy>
  <dcterms:modified xsi:type="dcterms:W3CDTF">2014-11-18T13:21:36Z</dcterms:modified>
  <cp:revision>29</cp:revision>
  <dc:subject/>
  <dc:title>La Belle Dame Sans Merci</dc:title>
</cp:coreProperties>
</file>